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B4F-5261-4460-B593-A768CA22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242-2143-4416-8782-8953F4AA1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919-90D1-4251-9D83-099B562C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18C-5330-46A2-85FB-1CA4ABF4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7E57-FB6F-4776-BB72-50DFEB45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A81-C204-481F-9601-C108B79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2A7-B7A4-40FB-BE24-79ED9F08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C18-0E84-477B-B45A-3D5C7A8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9A8-E90F-4F06-A3A5-E899032F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211-9A54-468F-A467-506B1A63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DFF5-A1A8-4137-ACF4-4F0BF87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FC3-B38A-439C-8167-A6850137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B6E1-0005-4786-AA8A-7605528E1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5248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2286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 Rounded MT Bold"/>
              </a:rPr>
              <a:t>Wir k</a:t>
            </a:r>
            <a:r>
              <a:rPr b="0" lang="en-US" sz="3600" spc="-1" strike="noStrike">
                <a:solidFill>
                  <a:srgbClr val="99cc00"/>
                </a:solidFill>
                <a:latin typeface="Arial Rounded MT Bold"/>
                <a:ea typeface="Arial"/>
              </a:rPr>
              <a:t>önnen mal nach Deutschland fah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86600" y="4800600"/>
            <a:ext cx="1752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el Sch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Tho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stav R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38479" r="0" b="15834"/>
          <a:stretch/>
        </p:blipFill>
        <p:spPr>
          <a:xfrm>
            <a:off x="304920" y="1905120"/>
            <a:ext cx="853416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fahren nach Baden-Baden von Chicago. Es koste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€1411.86 für alle 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122" t="12640" r="0" b="25571"/>
          <a:stretch/>
        </p:blipFill>
        <p:spPr>
          <a:xfrm>
            <a:off x="1143000" y="2362320"/>
            <a:ext cx="6705720" cy="3352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r gehen nach Baden-Baden, Rheinau, und Rheinmünster mit einer Privat Chauffer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7:11:13Z</dcterms:created>
  <dc:creator>CUSD220</dc:creator>
  <dc:description/>
  <dc:language>en-US</dc:language>
  <cp:lastModifiedBy>CUSD220</cp:lastModifiedBy>
  <dcterms:modified xsi:type="dcterms:W3CDTF">2012-01-06T17:43:48Z</dcterms:modified>
  <cp:revision>2</cp:revision>
  <dc:subject/>
  <dc:title>Slide 1</dc:title>
</cp:coreProperties>
</file>